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762F-2CDD-4908-A7EA-5CE8C2FA0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64F0-EEA5-4C1C-900A-84176825A7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07E-9A50-4F0F-BE88-417752B975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D65A-472D-417A-A3BF-ECC52DD2AD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153-CFE7-463C-9AD2-289ED779AF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19AF-9D3D-453C-B539-E8FEF71E8D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B4D-5B97-44FA-A518-FD12617926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C9E9-66F2-4FBB-830A-8A5B6ED1BF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3B2F-83AD-47C6-BF72-BF4A397304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6DF-6959-493A-A19E-2D0CDB0831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E697-3136-418F-9667-EAFBC0B3F5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763-2725-4501-AD18-653E06D27F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C1AA-2DB2-4A69-B488-A263841360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79C-EFF9-4896-90F8-A3E6BB56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CBC-5B69-42FF-8AEA-55DCD3D1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1E7-2952-4F05-B72A-EB772073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28D-2A5A-456F-A88D-0EE21668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442-8161-47C0-8F91-14A0BA88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A1C0-3EE8-46AC-B556-7721796B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CADB-E188-4574-A391-8CE9A8C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F47-C3D5-4C29-873F-E73981F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0143-4115-4EB0-8D52-FCE6B2B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FB08-E5A4-464B-A038-12C1B38B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BD59-5BBF-4CFE-9AA5-5F3329B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C42-9A30-4D9F-8346-FB808D2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4F1-99DC-408E-980D-BCDC45C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7C0-DB06-4883-BD81-523A960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604-B462-4BF6-8C48-9CD1C8D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458-78E8-4A33-A615-7DBBCEFA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DE3-1DAD-48FD-932E-E3BB1CC0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D4C-A22E-41F8-89A9-7685C49A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3C0-367D-418B-A262-A32E2EB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2E2-A6BB-42DE-98D3-22013AEE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BB0-7E28-4809-9801-35BB6223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6F7-3697-4397-93A7-7B17B28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97D-EE49-47C7-A3D3-E5A27DC6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C72-9E9A-49C9-9EF4-7A348D3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56A-93BC-4C75-82F2-9B11EB1E450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D1B-5FC6-432D-A8F3-4775EC3519D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java.nationalgeographic.com/studentatlas/clickup/buddhism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www.freefever.com/animatedgifs/animated/judaism4.gif&amp;imgrefurl=http://www.freefever.com/animatedgifs/judaism.html&amp;usg=__oqcxa5tg2ucPHowgT2-47VUlJLY=&amp;h=193&amp;w=197&amp;sz=16&amp;hl=en&amp;start=48&amp;sig2=7vkaOQBi_RtkDnfGJuIgYg&amp;tbnid=ikc6QUblmodtZM:&amp;tbnh=102&amp;tbnw=104&amp;ei=MBwfSf2NEIeOefGy1KgG&amp;prev=/images%3Fq%3Djudaism%26start%3D40%26gbv%3D2%26ndsp%3D20%26hl%3Den%26safe%3Dactive%26sa%3D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carboromissions.ca/Scarboro_missions_magazine/Issues/1994/February/images/judaism_1.jpg&amp;imgrefurl=http://www.scarboromissions.ca/Scarboro_missions_magazine/Issues/1994/February/judaism.php&amp;usg=__q9Lfsv6YGZK3abFF0YeTT4_JCfI=&amp;h=341&amp;w=250&amp;sz=22&amp;hl=en&amp;start=25&amp;sig2=lMXL-8EV8h1CVEYz_LRm6Q&amp;tbnid=HI-EcK2qaKxc-M:&amp;tbnh=120&amp;tbnw=88&amp;ei=TxwfSbCHNZGwerC1qLYG&amp;prev=/images%3Fq%3Djudaism%26start%3D20%26gbv%3D2%26ndsp%3D20%26hl%3Den%26safe%3Dactive%26sa%3D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tpub.com/content/religion/14229/img/14229_72_1.jpg&amp;imgrefurl=http://www.tpub.com/content/religion/14229/css/14229_72.htm&amp;usg=__Hqyw1_ETjZHfmhRaIAwl02hNXAU=&amp;h=317&amp;w=284&amp;sz=8&amp;hl=en&amp;start=21&amp;sig2=1GRvNxORMyAjtrLPAAnoug&amp;tbnid=eEVTJsRLe92V9M:&amp;tbnh=118&amp;tbnw=106&amp;ei=TxwfSbCHNZGwerC1qLYG&amp;prev=/images%3Fq%3Djudaism%26start%3D20%26gbv%3D2%26ndsp%3D20%26hl%3Den%26safe%3Dactive%26sa%3DN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nationalgeographic.com/xpeditions/hall/index.html?node=27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buddhart.com/product/EV69/aff10490/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java.nationalgeographic.com/studentatlas/clickup/buddhism.html" TargetMode="External"/><Relationship Id="rId4" Type="http://schemas.openxmlformats.org/officeDocument/2006/relationships/hyperlink" Target="http://www.religionfacts.com/buddhism/fastfacts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daism and Buddh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430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http://ngm.nationalgeographic.com/ngm/0401/feature5/index.htm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143000" y="182880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 Antiqua"/>
              </a:rPr>
              <a:t>Look at the following website to view video clips and images from a Buddhist monastery.  You can also listen to audio clips of the monks at pray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2508120"/>
            <a:ext cx="815328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 take a look at all of the world’s religions throughout time, go t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religionfacts.com/big_religion_chart.htm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12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loom, M.  “Day in the Life:  Rabbi..” Marketplace American Public Media Podcast.  Sept 18, 2004. http://marketplace.publicradio.org/display/web/2004/09/18/ditwl_rabbi/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ange, K.  “In Their Own World:  India’s Forbidden Hanle Valley,”  Jan. 2004. 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National Geographic Magazine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. http://ngm.nationalgeographic.com/ngm/0401/feature5/index.html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ational Geographic Xpedition hall, 2008,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National Geographic Society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. http://www.nationalgeographic.com/xpeditions/hall/index.html?node=27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ligion Facts:  Just the Facts on the World’s Religions.  2008. http://www.religionfacts.com/big_religion_chart.htm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ocial Studies – 9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Book Antiqua"/>
              </a:rPr>
              <a:t>t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Grad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S.O.9.5.7 - explain the basic tenets of major world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 and philosophies, their places of origin and the status of thos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 today. 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7413480" cy="11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28600" y="12952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unded: 1300 B.C. i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Mesopotamia by Ab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Population:  14 mill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mostly in Israel, Europe, and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23920" y="3352680"/>
            <a:ext cx="4419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Spiritual Leader: Rabbi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Place of Worship:  Synagogu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Basis for:  Christianity &amp; Isla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Worshippers:  Jewish, Hebrews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4" descr="Dome of the Rock"/>
          <p:cNvPicPr/>
          <p:nvPr/>
        </p:nvPicPr>
        <p:blipFill>
          <a:blip r:embed="rId2"/>
          <a:stretch/>
        </p:blipFill>
        <p:spPr>
          <a:xfrm>
            <a:off x="5079960" y="228600"/>
            <a:ext cx="37656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ews at the Western Wall, Jerusalem"/>
          <p:cNvPicPr/>
          <p:nvPr/>
        </p:nvPicPr>
        <p:blipFill>
          <a:blip r:embed="rId3"/>
          <a:stretch/>
        </p:blipFill>
        <p:spPr>
          <a:xfrm>
            <a:off x="304920" y="3505320"/>
            <a:ext cx="4497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11430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Afterlife:  Gan Eden, nonexistence, or reincar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Holidays:  Rosh Hashanah (Jewish New Year), Yom Kippur (Day of Atonement), and Hannuka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Beliefs:  Monothe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Sacred Texts:  Tanakh with the Talm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r more facts, go to the website be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Placeholder 2"/>
          <p:cNvSpPr/>
          <p:nvPr/>
        </p:nvSpPr>
        <p:spPr>
          <a:xfrm>
            <a:off x="990720" y="5105520"/>
            <a:ext cx="7086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religionfacts.com/judaism/fastfacts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Temple Mount"/>
          <p:cNvPicPr/>
          <p:nvPr/>
        </p:nvPicPr>
        <p:blipFill>
          <a:blip r:embed="rId3"/>
          <a:stretch/>
        </p:blipFill>
        <p:spPr>
          <a:xfrm>
            <a:off x="5638680" y="274320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marketplace.publicradio.org/display/web/2004/09/18/ditwl_rabbi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28600" y="19810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 Antiqua"/>
              </a:rPr>
              <a:t>Go to the following website to listen to an audio clip of the day in the life of a Rabb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http://tbn0.google.com/images?q=tbn:ikc6QUblmodtZM:http://www.freefever.com/animatedgifs/animated/judaism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4267080"/>
            <a:ext cx="1632240" cy="221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tbn0.google.com/images?q=tbn:HI-EcK2qaKxc-M:http://www.scarboromissions.ca/Scarboro_missions_magazine/Issues/1994/February/images/judaism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267080"/>
            <a:ext cx="1600200" cy="218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tbn0.google.com/images?q=tbn:eEVTJsRLe92V9M:http://www.tpub.com/content/religion/14229/img/14229_72_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572000"/>
            <a:ext cx="14475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25360" y="-139680"/>
            <a:ext cx="881532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4920" y="1523880"/>
          <a:ext cx="8229600" cy="4403880"/>
        </p:xfrm>
        <a:graphic>
          <a:graphicData uri="http://schemas.openxmlformats.org/drawingml/2006/table">
            <a:tbl>
              <a:tblPr/>
              <a:tblGrid>
                <a:gridCol w="1523880"/>
                <a:gridCol w="2286000"/>
                <a:gridCol w="228600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.4 m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 b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9 b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rig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erusa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c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thleh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a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bra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uhamm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esus Chr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lie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One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eople accountable for their s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Follow the ten command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Pillars of Islam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rofession of faith (shahad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rayer (sala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almsgiving (zakat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fasting (sawm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ilgrimage (haj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One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Jesus died to save humanity from s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Jesus is the Son of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x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r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ld Testa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an (Qur’a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ible:  Old and New Testa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533520" y="6248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ies in all three religions include the belief in only one God, prayer, Abraham, life after death, heaven and hell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225360" y="-139680"/>
            <a:ext cx="8815320" cy="1882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533520" y="17524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Similarities in all three reli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include the belief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On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Abra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Life after dea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Heaven and Hel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" descr="Jon D. Levenson"/>
          <p:cNvPicPr/>
          <p:nvPr/>
        </p:nvPicPr>
        <p:blipFill>
          <a:blip r:embed="rId2"/>
          <a:stretch/>
        </p:blipFill>
        <p:spPr>
          <a:xfrm>
            <a:off x="5486400" y="2674800"/>
            <a:ext cx="32004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-6480" y="165240"/>
            <a:ext cx="8815680" cy="1882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14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nationalgeographic.com/xpeditions/hall/index.html?node=27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590920" y="205740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 Antiqua"/>
              </a:rPr>
              <a:t>Go to the following website to view the city of Jerusalem from the perspective of a Jew, a Christian, and a Musl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http://www.smith.edu/jud/images/jerusalem.jpg"/>
          <p:cNvPicPr/>
          <p:nvPr/>
        </p:nvPicPr>
        <p:blipFill>
          <a:blip r:embed="rId3"/>
          <a:stretch/>
        </p:blipFill>
        <p:spPr>
          <a:xfrm>
            <a:off x="0" y="2057400"/>
            <a:ext cx="2333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741348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buddhart.com/sculptures/laughing_buddha_ev69s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152280"/>
            <a:ext cx="2666880" cy="2976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28600" y="12952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unded:  520 B.C. in India by Budd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Population:  360 million, mostly in As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4</a:t>
            </a:r>
            <a:r>
              <a:rPr b="0" lang="en-US" sz="2400" spc="-1" strike="noStrike" baseline="30000">
                <a:solidFill>
                  <a:srgbClr val="00206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 largest in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257440" y="3352680"/>
            <a:ext cx="38862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Spiritual Leader:  Monk (Lama in Tibe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Place of Worship:  Temp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2" descr="http://go.hrw.com/venus_images/0306MC06.gif"/>
          <p:cNvPicPr/>
          <p:nvPr/>
        </p:nvPicPr>
        <p:blipFill>
          <a:blip r:embed="rId4"/>
          <a:stretch/>
        </p:blipFill>
        <p:spPr>
          <a:xfrm>
            <a:off x="228600" y="3124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1430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Beliefs:  Polytheistic mainly, but some are Athe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Afterlife:  Rebirth or Nirvana (heavenly parad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Sacred Texts:  Tripi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Holidays:  Buddha’s birth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r more facts, go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websites be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Buddhist monks"/>
          <p:cNvPicPr/>
          <p:nvPr/>
        </p:nvPicPr>
        <p:blipFill>
          <a:blip r:embed="rId2"/>
          <a:stretch/>
        </p:blipFill>
        <p:spPr>
          <a:xfrm>
            <a:off x="4724280" y="2438280"/>
            <a:ext cx="4224600" cy="2819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57200" y="5562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 http://java.nationalgeographic.com/studentatlas/clickup/buddhism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http://www.religionfacts.com/buddhism/fastfacts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0:18:24Z</dcterms:created>
  <dc:creator>Lezlie</dc:creator>
  <dc:description/>
  <dc:language>en-US</dc:language>
  <cp:lastModifiedBy>Lezlie</cp:lastModifiedBy>
  <dcterms:modified xsi:type="dcterms:W3CDTF">2008-11-15T19:08:45Z</dcterms:modified>
  <cp:revision>19</cp:revision>
  <dc:subject/>
  <dc:title>World religions</dc:title>
</cp:coreProperties>
</file>